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548-5720-47F3-9104-CDCCE342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0E4-B0DA-4CBA-A492-3CE44383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238-E197-4BB3-9ABF-BD6246C6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81B-7F96-4D91-9AAE-6E3AA950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FAC-AF84-407A-A278-0A2736D2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3EF-3DD6-4BCB-A200-36E48979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94C-39C6-4126-B960-F382BA2F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74B-79B9-47C0-B20E-7044D102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FD5-CE0C-442F-9551-75F9B15F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3D4-0221-4352-8086-8331C79C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8FF-14D3-43B9-9F88-7922A61B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A53-6D88-42DB-82C4-90EB0ACE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E2CE-9868-465C-A240-1238E87DF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 Bias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o you think boys are smarter than gir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Do you think girls are better at sports than gir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Do you think girls are faster than boy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Do you think boys are better at sports than gir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Do you think girls are better at everything than boy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Do you think only girls should tea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Do you think real men don’t c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Only tough men wear pin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Do you think men are physically tougher than wom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Do you think men are better at everything than wom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81040" y="14112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14112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5:13:34Z</dcterms:created>
  <dc:creator>Vanessa Collier</dc:creator>
  <dc:description/>
  <dc:language>en-US</dc:language>
  <cp:lastModifiedBy>Vanessa Collier</cp:lastModifiedBy>
  <dcterms:modified xsi:type="dcterms:W3CDTF">2010-04-13T17:16:50Z</dcterms:modified>
  <cp:revision>6</cp:revision>
  <dc:subject/>
  <dc:title>Gender Bias Survey</dc:title>
</cp:coreProperties>
</file>